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FF6-B29C-4B30-9E92-87F770AA6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: James Milton, University of Wales Swan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77BA-7FAE-4BBE-8C11-2E5B981AC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8BB-01D7-4D69-A8D7-7A4F877D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2C5-0DC7-4906-B9A9-97BCC07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C25-C719-4C22-817C-BB698268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FE8-F2BC-4E56-99F5-3FE85BCC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0A5F-9CEA-4C74-94B7-D6D87D28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CAA6-C459-4E77-8608-E6889109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257-0CFC-44C7-8677-AD2A732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9986-8E3D-42F5-BEAE-2E9A023B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181D-7941-434E-AE7A-3283640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3A15-3055-414E-ADC6-E7CF5CD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40FE-A3C1-4FAD-B1B7-431657D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018-EE90-4D9C-8FCD-43D45466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AA29-7985-47D0-8CC0-5CE7F5A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D4E9-0B64-45F9-9BC9-C08A316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322-6703-47C5-8B61-51825FC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7DF7-4B8C-4CD2-8673-36E163B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F591-377F-473E-80D7-9523D9F9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229-E461-4398-8B23-E8EEC46B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376-6793-4FB4-BB15-FA4234FA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94A-105B-4485-9F31-54E7913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147-949A-44E9-B886-344E9F6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A83-4F0B-49B8-A8C5-4C829C1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7C6-2C6E-42D4-A1C1-E629AE9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B03-BB34-4BB3-B0EC-FD7DB87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ADF-CFA1-40B2-8B87-AA1085FF5C7D}" type="slidenum">
              <a:rPr b="0" lang="en-US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6D07-0603-4BC7-B2DB-6FAADA3B7B75}" type="slidenum">
              <a:rPr b="0" lang="en-GB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ottingham.ac.uk/~alzsh3/acvocab/wordlists.ht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ademicvocabularyexercises.com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ditthis.info/thebnl/Main_Page#The_list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LEXIS – Focus on Vocabular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US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In what patterns does the word occur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In what patterns must we use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s or types of words occur with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s or types of words must we use with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ere, when, and how often would we expect to meet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ere, when, and how often can we use this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HOOSING VOCABULAR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FREQUENCY L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CORPOR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GENERAL SERVICE LIS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www.nottingham.ac.uk/~alzsh3/acvocab/wordlists.ht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ACADEMIC WORD LIS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www.academicvocabularyexercises.com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BNL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2d700"/>
                </a:solidFill>
                <a:uFillTx/>
                <a:latin typeface="Century Schoolbook"/>
                <a:hlinkClick r:id="rId1"/>
              </a:rPr>
              <a:t>http://editthis.info/thebnl/Main_Page#The_list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ELF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“</a:t>
            </a: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Keyed to CEFR”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entury Schoolbook"/>
              </a:rPr>
              <a:t>http://tvo.wikispaces.com/file/view/20386024-Common-English-Lexical-Framework.pdf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OCABULARY PROFIL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lextutor.ca/vp/eng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ANOTHER PROFILER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ec.hku.hk/vocabulary/profile.ht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ORPUS LINGUIS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(“corpora” is the plural of “corpus”)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collins.co.uk/Corpus/CorpusSearch.asp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natcorp.ox.ac.uk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www.americancorpus.org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VERY USER FRIENDL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ttp://193.133.140.102/JustTheWord/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THE LEXICAL APPROACH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Michael Lewis (1993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constitutes a word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 (noun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 (verb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ORD FAMILI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elp, help, helps, helped, helper, helpful, helpless, helplessly, unhelpfu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Schoolbook"/>
              </a:rPr>
              <a:t>L1 vocabulary growth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Very young learners learn 50 – 350 words in the holophrastic phase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At age 3 – 500-1000 words in active vocabular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Age 6 – 2500-5000 lemma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Learners add 1000-3000 words per year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University entrants in UK - c.9,000 word famili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Schoolbook"/>
              </a:rPr>
              <a:t>Graduate students in UK – c.13,000 word famili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entury Schoolbook"/>
              </a:rPr>
              <a:t>Using this information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identifying readiness for higher stud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University entr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Schoolbook"/>
              </a:rPr>
              <a:t>Ability to read books in a canon or textbook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Shrek – 6000 words 95% co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2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 Century English fiction – 8-9000 word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Textbook – 10-12000+ words for 95% co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CEF an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entury Schoolbook"/>
              </a:rPr>
              <a:t>vocabulary level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700280"/>
          <a:ext cx="7620120" cy="4411440"/>
        </p:xfrm>
        <a:graphic>
          <a:graphicData uri="http://schemas.openxmlformats.org/drawingml/2006/table">
            <a:tbl>
              <a:tblPr/>
              <a:tblGrid>
                <a:gridCol w="2048040"/>
                <a:gridCol w="3057480"/>
                <a:gridCol w="25146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CEF lev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Cambridge ES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Vocab size/5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rs et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- 2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0 - 325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0 - 37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0 - 4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 - 5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oes it mean to “know” a word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533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F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does the word sound lik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ow is the word pronounce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does the word look lik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How is the word written and spelle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parts are recognizable in the word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 parts are needed to express the meaning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meaning does this word form signal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word form can be used to express this meaning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is included in the concept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items can the concept refer to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other words does this make us think of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entury Schoolbook"/>
              </a:rPr>
              <a:t>What other words could we use instead of this one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9:12:01Z</dcterms:created>
  <dc:creator>PhilipFranklin</dc:creator>
  <dc:description/>
  <dc:language>en-US</dc:language>
  <cp:lastModifiedBy>PhilipFranklin</cp:lastModifiedBy>
  <dcterms:modified xsi:type="dcterms:W3CDTF">2010-03-29T12:24:18Z</dcterms:modified>
  <cp:revision>24</cp:revision>
  <dc:subject/>
  <dc:title>Slide 1</dc:title>
</cp:coreProperties>
</file>